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EA11-446B-48D0-A4E6-56C374762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0520" y="391860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7812-BE4A-439E-B81B-1DBE0C73F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80520" y="39186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14560" y="39186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CF29-F663-47E4-AFDF-944372B90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0360" y="137124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00560" y="137124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80520" y="391860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0360" y="391860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00560" y="391860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E01D-D0E5-4D9B-91C8-23FCD46A5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AF9BE-73C5-4816-8C41-3C4BF13A4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48FD0-D06C-43E2-A1DA-8B9AEF1D8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AFDAF-DEB1-435A-80B4-320504D33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720C9-C1F7-418D-B309-5451AD73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EEBB0-A8EC-460C-B45A-986EB0EB5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066680" y="152280"/>
            <a:ext cx="77932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3CC04-4226-4C72-9523-1C006D23F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39186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3AD78-4969-4909-AC01-3BC9D375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5D40-D2CF-41C0-A80B-054E8DB43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14560" y="39186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9E4BF-576C-4CE6-B9B4-7A9D4F00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0520" y="391860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191ED-F942-47C3-AC1B-97B47E4F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0520" y="391860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DD1C4-478A-4286-8F92-14BD24389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80520" y="39186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14560" y="39186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18885-B62E-47E4-A3D7-BA0984D27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40360" y="137124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00560" y="137124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80520" y="391860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40360" y="391860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00560" y="391860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3C497-51F1-4FE1-BCE9-185C444DE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89B0-531E-4430-9AE0-EBB157463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09A4-B22F-40DC-B1B4-665133D73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9550-1A40-4B0F-84D7-B42C436B3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152280"/>
            <a:ext cx="77932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34E5-AE91-42F7-912C-3B139D7F3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39186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1A32-C0E1-47BC-8212-454115A1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4560" y="39186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9E09-D233-4F8A-BA89-5ECBFC84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520" y="391860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50B3-9BE2-4FF1-96E6-4229939C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22860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33520" y="22860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38088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38088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09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22860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0440" y="106632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CBDA0-DAE7-4A7C-8ACE-4D395C07B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8153280" y="6053040"/>
            <a:ext cx="990720" cy="804960"/>
          </a:xfrm>
          <a:prstGeom prst="rect">
            <a:avLst/>
          </a:prstGeom>
          <a:ln w="0">
            <a:noFill/>
          </a:ln>
        </p:spPr>
      </p:pic>
      <p:pic>
        <p:nvPicPr>
          <p:cNvPr id="13" name="" descr=""/>
          <p:cNvPicPr/>
          <p:nvPr/>
        </p:nvPicPr>
        <p:blipFill>
          <a:blip r:embed="rId3"/>
          <a:stretch/>
        </p:blipFill>
        <p:spPr>
          <a:xfrm>
            <a:off x="7391520" y="6168960"/>
            <a:ext cx="715680" cy="68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51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4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ECA54-DD0E-4E5F-8294-8B5DCB13003D}" type="slidenum">
              <a:rPr b="0" lang="en-US" sz="14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Replicable Model Organism Information Syste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yBase next-gen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 Gilbert, gilbertd@indiana.e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715000" y="5181480"/>
            <a:ext cx="2022480" cy="14893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514600" y="5715000"/>
            <a:ext cx="1819440" cy="563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905120" y="5562720"/>
            <a:ext cx="715680" cy="68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ortable FlyBase 1996-2002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yBase last-generation portable system structure (1996-2002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 common Unices supported; source code inclu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 installs and runs in any Unix pa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 all via Apache web server &amp; CGI (no separate standalone servers beyond FT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 update nightly from main server via FTP mirror job; ‘live-file-system’ mirroring (not tarbal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 ftp://fbserver:FlyBase@ FlyBase.ne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lyBase old structur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ybase-server/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gi-bin/     -- web CGI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-local -&gt;  OS specific fol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-&gt; ~ftp/flybase/data/    -- public data files (with FTP acc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ces/ -- data search index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/    -- web 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rror/  -- FTP mirroring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/   -- public web pages and accessory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etc/    -- accessory data, miscell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srs/    -- SRS search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errations/ -- many subject class fold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tomy/  genes/  maps/  refs/  seqs/  and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/    -- program sourc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n-sparc-solaris-bin/, sgi-irix-bin/ , linux-i86-elf-bin/ -- OS specific bin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*, Readme -- installation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lyBase next-gener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bio/biodb/                        rsync://FlyBase.net/bio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/ ; perl/ -- language pack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s/ -- major programs (blast, dbms, internet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s/ -- OS binaries of programs, pack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org/     -- template information system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ybase/   -- implemented project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gene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phnia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lyBase next-gener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978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gregate common infrastructure from project-specific p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t customer-choice per-package installations and upd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find/make package distribution management ut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e logic to update infrastructure from source si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 on 'rsync' now as main distribution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ting RPM, pacman, cluster-backup tools, grid packaging too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VS management of biodb structure, package info, configs but not main programs, data, bin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project packages should be flexible in structure,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needs to specify infrastructure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security/authentication options; private and public sec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ain daily mirror-ability of current serv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ain ‘live file system’ mirror/replication 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distribution &amp; update of active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local clusters to manage high-volume traf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sues with rdbms and other stand-alone server up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install/update script to allow path choices, auto-restart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lyBase NG structure detai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319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/bio/biodb  comm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axis,  lsid, lucene, ogsa, xindice (others to move 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lsid,   (others to move 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rv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ache,   tomc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keleydb,  mysql,  postgresql,  s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dap,  mirror,  rsync,  wuft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hope to use 'plain vanilla' copies of these so updates are easy and customers can replace as des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customize per project and via configur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95680" y="1371600"/>
            <a:ext cx="4496040" cy="47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/bio/biodb  comm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 fbapache_1.3.26.tar.gz, mod_backhand-1.2.2.tar.gz, mod_layout-3.2.tar.gz, mod_throttle-312.tgz;  postgresql-7.3.2.tar.gz, berkeleydb, mysql, rsync, blast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-loc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-- common reference link to active system bin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-- compiled binaries for common ser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e-powerpc-darwin, intel-linux, sgi-irix, sun-sparc-solar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yOrganism project templat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47720" y="1371240"/>
            <a:ext cx="7832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gi-b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 -- web CGI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- symlink to common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ache.conf  -- virtual host include for main httpd.co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ache.conf.local  -- local host config (not mirror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ache.conf.in  -- path-independent ; other project config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public data (symlink to FTP fold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b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project databases (configs, scripts, common symlink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miscell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i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-- database indices (update oft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secure, authenticated access data, we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m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tempo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public web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app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-- web Servlet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ync.exclude.local  -- project mirroring configu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lyBase NG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gi-b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-- web CGI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- symlink to common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apache.conf,  apache.conf.in, apache.conf.local, cvsweb.co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aberrations: allied-data: docs: extdb: genes: images: maps: news: nomenclature: refs: wor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b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blast: s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cytodb: expdb: gmod-fb: gnomap: icons: insitus: jdata: jlib: kevin: other: people: perlbio: pix: plib: prefs: sean: stockxgene: templates: tomcat transmolmaps: transseq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i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 blast: srs:  postgr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m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aberrations: allied-data: alt-views: anatomy: annotfb: clones: docs: fbservlet: gbrowse_fb genes: genome-projects: images: index.html maps: people: pep: refs: robots.txt search: sequences: stocks: transpos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app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  cvservlet: fbchad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ync.exclude.lo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lyBase NG issu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soon for production FlyBase (summer 200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work with gmod-web, other gmo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packaging distribution manag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chanics for public/private mix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6560" y="5105520"/>
            <a:ext cx="665604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 progress a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rsync://FlyBase.net/biodb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eb do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ttp://FlyBase.net/flybase-ng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2T20:38:43Z</dcterms:created>
  <dc:creator>don gilbert</dc:creator>
  <dc:description/>
  <dc:language>en-US</dc:language>
  <cp:lastModifiedBy>don gilbert</cp:lastModifiedBy>
  <dcterms:modified xsi:type="dcterms:W3CDTF">2003-05-03T14:43:03Z</dcterms:modified>
  <cp:revision>18</cp:revision>
  <dc:subject/>
  <dc:title>PowerPoint Presentation  -  Replicable Model Organism Information System</dc:title>
</cp:coreProperties>
</file>